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153-A7AB-4D2D-A185-C98759E8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16D-553C-46AF-B986-52EF6E6C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09E-80CF-4CC1-B9BF-ADEFEB08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DDB-8501-4F22-9847-373CD2BA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D48-A0C5-43B1-9AB7-BDB607F5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36C-1B52-4472-9AF4-CC1692C5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487-842F-4E93-8A42-79AEF7FE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658-4161-44B5-9FF9-B4F59161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E01-BE9E-4CF2-8209-746CFA18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749-AA61-4575-98B2-AC3C3EE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8A7-54D8-41D7-BF78-8CB6ED5E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CA9-F3E1-4B51-8D98-D437E621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1E79-0D46-44EC-BD49-C721F9CA7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um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Macintosh HD:Users:outcalt_linda:Desktop:recording1.mov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Macintosh HD:Users:outcalt_linda:Desktop:Recording2.mov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1536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00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6:27:26Z</dcterms:created>
  <dc:creator>ASD Staff</dc:creator>
  <dc:description/>
  <dc:language>en-US</dc:language>
  <cp:lastModifiedBy>ASD Staff</cp:lastModifiedBy>
  <dcterms:modified xsi:type="dcterms:W3CDTF">2008-07-21T06:33:46Z</dcterms:modified>
  <cp:revision>2</cp:revision>
  <dc:subject/>
  <dc:title>How to Record</dc:title>
</cp:coreProperties>
</file>